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22.wmf" ContentType="image/x-wmf"/>
  <Override PartName="/ppt/media/image20.png" ContentType="image/png"/>
  <Override PartName="/ppt/media/image19.jpeg" ContentType="image/jpeg"/>
  <Override PartName="/ppt/media/image18.jpeg" ContentType="image/jpeg"/>
  <Override PartName="/ppt/media/image21.wmf" ContentType="image/x-wmf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4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53225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53600" cy="984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5480" y="736200"/>
            <a:ext cx="4923000" cy="36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Click to move the slide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01800" y="4673520"/>
            <a:ext cx="495144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34848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27160" y="934848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2F6583-7B81-4B57-84D6-3AF84E189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27160" y="934848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0E6560-6CF3-418E-B48E-77AE05447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0" y="934848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9080" y="73980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6440" y="4674960"/>
            <a:ext cx="54036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ou can see the test board with chip on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oscillation  problem have been almost solved by chip on boa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are  no longer oscillations at gain lower than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827160" y="934848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AF3D32-5E63-4B9C-AFED-9BECCB1A8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0" y="934848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7640" y="738360"/>
            <a:ext cx="4921200" cy="36907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6440" y="4674960"/>
            <a:ext cx="540360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87C5-F26A-4A54-A8EE-DCFF30CEC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1532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660480"/>
            <a:ext cx="81532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FE00-0028-441F-A32E-988A5EDD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0676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E554-B0FD-4D97-A557-0E022169D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85480" y="91404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42000" y="91404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66048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85480" y="366048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42000" y="366048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81E3-1F51-4A6C-A1E3-90BBB3C6F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86AF-8329-4FE2-9BE5-25316CE93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EA29-BD08-49AA-9584-B7DEBCF8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D874-92FB-4102-8965-9FEE9868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9FE0-FA24-41C0-A071-BBB63555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A50F-67E2-4D9E-81D1-A43B6346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6320"/>
            <a:ext cx="8001000" cy="25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0649-3CA2-4AB7-AE64-592C82F6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AADE-738F-4E86-B9C2-BEB3233A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CEB3-2BAF-4905-918A-9A89BE8C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0676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EEA5-CC49-4B74-AC20-C32DBD0D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81532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1AF1-ECEA-4594-9C00-F332F770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1532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660480"/>
            <a:ext cx="81532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C239-BB9E-443B-8E52-82442DBE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0676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C1FE-3FD1-4BCE-9EC6-23B0D27F2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985480" y="91404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42000" y="91404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66048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985480" y="366048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42000" y="366048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6970-EFF9-4432-8E05-33861017D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FB5E-6AF0-451C-88C0-B3272C8C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981C-82DC-4CBA-9242-FDDE50B8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3AE3-11FD-4D52-BC7F-600065AE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76320"/>
            <a:ext cx="8001000" cy="25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84A7-A4B0-419D-B7A4-33AF53A8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36B0-CCD4-4E7F-990E-BE902395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0676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E6A2-0597-4EDC-A689-D359CE27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81532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2B85-27E6-4E60-B5D9-D143BA03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629040"/>
            <a:ext cx="1524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040" y="6629040"/>
            <a:ext cx="5257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19760" y="6629040"/>
            <a:ext cx="1066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A661-A290-4098-99F1-5BC573301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20640"/>
            <a:ext cx="8076960" cy="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5438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8A62-7F50-40EF-B851-2A8594403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349"/>
              </a:spcBef>
              <a:buClr>
                <a:srgbClr val="3366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n2p3.fr/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u-psud.fr/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www.cnrs.fr/" TargetMode="External"/><Relationship Id="rId7" Type="http://schemas.openxmlformats.org/officeDocument/2006/relationships/image" Target="../media/image4.jpe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848720" cy="16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Comic Sans MS"/>
              </a:rPr>
              <a:t>Large area photodetection for Water Cerenkov detectors </a:t>
            </a:r>
            <a:br>
              <a:rPr sz="2800"/>
            </a:br>
            <a:r>
              <a:rPr b="1" lang="fr-FR" sz="2800" spc="-1" strike="noStrike">
                <a:solidFill>
                  <a:srgbClr val="ff3300"/>
                </a:solidFill>
                <a:latin typeface="Comic Sans MS"/>
              </a:rPr>
              <a:t>PMm</a:t>
            </a:r>
            <a:r>
              <a:rPr b="1" lang="fr-FR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fr-FR" sz="2800" spc="-1" strike="noStrike">
                <a:solidFill>
                  <a:srgbClr val="ff3300"/>
                </a:solidFill>
                <a:latin typeface="Comic Sans MS"/>
              </a:rPr>
              <a:t> proposal: Front End Electronics</a:t>
            </a:r>
            <a:br>
              <a:rPr sz="2800"/>
            </a:br>
            <a:r>
              <a:rPr b="1" lang="fr-FR" sz="2800" spc="-1" strike="noStrike">
                <a:solidFill>
                  <a:srgbClr val="ff3300"/>
                </a:solidFill>
                <a:latin typeface="Comic Sans MS"/>
              </a:rPr>
              <a:t>MAROC ASIC</a:t>
            </a:r>
            <a:endParaRPr b="1" lang="en-US" sz="28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8920" y="4979520"/>
            <a:ext cx="8713800" cy="7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Pierre BARRILLON, Sylvie BLIN, Jean-Eric CAMPAGNE, Christophe de LA TAILLE, Nathalie SEGUIN-MOREAU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(LAL ORSAY)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Joel POUTHAS, Bernard GENOLINI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(IPNO IN2P3)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67640" y="5840280"/>
            <a:ext cx="1297080" cy="757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64000" y="5911920"/>
            <a:ext cx="1656000" cy="612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5823000"/>
            <a:ext cx="2195640" cy="774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916360" y="5948280"/>
            <a:ext cx="1871640" cy="64944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3419640" y="333360"/>
            <a:ext cx="2158920" cy="2521080"/>
            <a:chOff x="3419640" y="333360"/>
            <a:chExt cx="2158920" cy="2521080"/>
          </a:xfrm>
        </p:grpSpPr>
        <p:pic>
          <p:nvPicPr>
            <p:cNvPr id="97" name="" descr=""/>
            <p:cNvPicPr/>
            <p:nvPr/>
          </p:nvPicPr>
          <p:blipFill>
            <a:blip r:embed="rId8"/>
            <a:srcRect l="0" t="23783" r="0" b="0"/>
            <a:stretch/>
          </p:blipFill>
          <p:spPr>
            <a:xfrm>
              <a:off x="3419640" y="333360"/>
              <a:ext cx="2158920" cy="2163240"/>
            </a:xfrm>
            <a:prstGeom prst="rect">
              <a:avLst/>
            </a:prstGeom>
            <a:ln w="9360">
              <a:solidFill>
                <a:srgbClr val="009900"/>
              </a:solidFill>
              <a:miter/>
            </a:ln>
          </p:spPr>
        </p:pic>
        <p:pic>
          <p:nvPicPr>
            <p:cNvPr id="98" name="" descr=""/>
            <p:cNvPicPr/>
            <p:nvPr/>
          </p:nvPicPr>
          <p:blipFill>
            <a:blip r:embed="rId9"/>
            <a:srcRect l="17508" t="12557" r="13711" b="5953"/>
            <a:stretch/>
          </p:blipFill>
          <p:spPr>
            <a:xfrm>
              <a:off x="3419640" y="333360"/>
              <a:ext cx="2155680" cy="2521080"/>
            </a:xfrm>
            <a:prstGeom prst="rect">
              <a:avLst/>
            </a:prstGeom>
            <a:ln w="9360">
              <a:solidFill>
                <a:srgbClr val="009900"/>
              </a:solidFill>
              <a:miter/>
            </a:ln>
          </p:spPr>
        </p:pic>
        <p:pic>
          <p:nvPicPr>
            <p:cNvPr id="99" name="" descr=""/>
            <p:cNvPicPr/>
            <p:nvPr/>
          </p:nvPicPr>
          <p:blipFill>
            <a:blip r:embed="rId10"/>
            <a:srcRect l="16077" t="9433" r="10749" b="5617"/>
            <a:stretch/>
          </p:blipFill>
          <p:spPr>
            <a:xfrm>
              <a:off x="3419640" y="1524600"/>
              <a:ext cx="1093320" cy="1328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TEST BOARD </a:t>
            </a:r>
            <a:endParaRPr b="1" lang="en-US" sz="20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6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68360" y="692280"/>
            <a:ext cx="8278560" cy="5832000"/>
            <a:chOff x="468360" y="692280"/>
            <a:chExt cx="8278560" cy="5832000"/>
          </a:xfrm>
        </p:grpSpPr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468360" y="692280"/>
              <a:ext cx="7019640" cy="58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3080880" y="3586320"/>
              <a:ext cx="946080" cy="942840"/>
            </a:xfrm>
            <a:prstGeom prst="ellipse">
              <a:avLst/>
            </a:prstGeom>
            <a:noFill/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56600" y="4580280"/>
              <a:ext cx="1185120" cy="58068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MAROC (CO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88200" y="4496760"/>
              <a:ext cx="1186560" cy="58068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Times New Roman"/>
                </a:rPr>
                <a:t>64ch PM soc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188120" y="4332600"/>
              <a:ext cx="1183680" cy="33732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USB 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61800" y="1684440"/>
              <a:ext cx="1185120" cy="33732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GPIB 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47480" y="4580280"/>
              <a:ext cx="1185120" cy="58068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Times New Roman"/>
                </a:rPr>
                <a:t>Control Alte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A693-A951-4F4B-997A-356DBE7FF58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Large area photodetection requirements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4559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Single photoelectron sensitivity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Excellent time resolution ~100 ps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High granularity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Scalability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f3300"/>
                </a:solidFill>
                <a:uFillTx/>
                <a:latin typeface="Comic Sans MS"/>
              </a:rPr>
              <a:t>Low cost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Profit from progress in micro-electronics and DAQ !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00"/>
                </a:solidFill>
                <a:latin typeface="Comic Sans MS"/>
              </a:rPr>
              <a:t>Many issues in common with HPD or large PMs developments by KEK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116680" y="836640"/>
            <a:ext cx="3768480" cy="3816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227640" y="4824360"/>
            <a:ext cx="2089440" cy="203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9880-4FDB-4149-9BD0-62D15525E09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041240" y="141300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Joël Pouthas</a:t>
            </a: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IPN Or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04000" y="476280"/>
            <a:ext cx="234000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580000" y="1844640"/>
            <a:ext cx="3344760" cy="3960720"/>
            <a:chOff x="5580000" y="1844640"/>
            <a:chExt cx="3344760" cy="396072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rcRect l="0" t="23783" r="0" b="0"/>
            <a:stretch/>
          </p:blipFill>
          <p:spPr>
            <a:xfrm>
              <a:off x="5580000" y="1844640"/>
              <a:ext cx="3344760" cy="3398760"/>
            </a:xfrm>
            <a:prstGeom prst="rect">
              <a:avLst/>
            </a:prstGeom>
            <a:ln w="9360">
              <a:solidFill>
                <a:srgbClr val="009900"/>
              </a:solidFill>
              <a:miter/>
            </a:ln>
          </p:spPr>
        </p:pic>
        <p:pic>
          <p:nvPicPr>
            <p:cNvPr id="108" name="" descr=""/>
            <p:cNvPicPr/>
            <p:nvPr/>
          </p:nvPicPr>
          <p:blipFill>
            <a:blip r:embed="rId2"/>
            <a:srcRect l="17508" t="12557" r="13711" b="5953"/>
            <a:stretch/>
          </p:blipFill>
          <p:spPr>
            <a:xfrm>
              <a:off x="5580000" y="1844640"/>
              <a:ext cx="3340080" cy="3960720"/>
            </a:xfrm>
            <a:prstGeom prst="rect">
              <a:avLst/>
            </a:prstGeom>
            <a:ln w="9360">
              <a:solidFill>
                <a:srgbClr val="009900"/>
              </a:solidFill>
              <a:miter/>
            </a:ln>
          </p:spPr>
        </p:pic>
        <p:pic>
          <p:nvPicPr>
            <p:cNvPr id="109" name="" descr=""/>
            <p:cNvPicPr/>
            <p:nvPr/>
          </p:nvPicPr>
          <p:blipFill>
            <a:blip r:embed="rId3"/>
            <a:srcRect l="16077" t="9433" r="10749" b="5617"/>
            <a:stretch/>
          </p:blipFill>
          <p:spPr>
            <a:xfrm>
              <a:off x="5580000" y="3716280"/>
              <a:ext cx="1693800" cy="208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"/>
          <p:cNvSpPr/>
          <p:nvPr/>
        </p:nvSpPr>
        <p:spPr>
          <a:xfrm>
            <a:off x="1116000" y="5950080"/>
            <a:ext cx="65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ntegrated electronics</a:t>
            </a:r>
            <a:r>
              <a:rPr b="0" lang="en-US" sz="2000" spc="-1" strike="noStrike">
                <a:solidFill>
                  <a:srgbClr val="cccc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ultichannel, close to the PM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332000" y="4463640"/>
            <a:ext cx="5497560" cy="1846440"/>
            <a:chOff x="1332000" y="4463640"/>
            <a:chExt cx="5497560" cy="1846440"/>
          </a:xfrm>
        </p:grpSpPr>
        <p:sp>
          <p:nvSpPr>
            <p:cNvPr id="112" name=""/>
            <p:cNvSpPr/>
            <p:nvPr/>
          </p:nvSpPr>
          <p:spPr>
            <a:xfrm rot="21192000">
              <a:off x="6013080" y="4508640"/>
              <a:ext cx="789120" cy="5029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1332000" y="4868640"/>
              <a:ext cx="4681440" cy="108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1332000" y="5949720"/>
              <a:ext cx="0" cy="36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79280" y="836640"/>
            <a:ext cx="5077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Mm2” (2006 – 2009), funded by the ANR (National Agency for Research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L Orsay, IPN Orsay, LAPP Annecy and Photon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Replace large PMTs (20”) by groups of smaller ones (12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Use central multi-channel ASIC (MARO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Use common High Voltage to reduce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nly one wire out (DATA + VC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Water-t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get low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SzPct val="72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SzPct val="92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7680" y="168120"/>
            <a:ext cx="34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R&amp;D PROGRAM FOR PMm</a:t>
            </a:r>
            <a:r>
              <a:rPr b="1" lang="en-US" sz="20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20F5-A3ED-4941-92A2-63966E4D4AC4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MAROC : 64 ch MAPMT chip for ATLAS lumi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765000"/>
            <a:ext cx="2808360" cy="549000"/>
          </a:xfrm>
          <a:prstGeom prst="rect">
            <a:avLst/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PMT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: 5x5 array of 64 anodes PM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95840" y="2060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427640" y="98100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flipV="1">
            <a:off x="3203640" y="3357360"/>
            <a:ext cx="1944720" cy="43308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131640" y="2060640"/>
            <a:ext cx="1871640" cy="10080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859280" y="4437000"/>
            <a:ext cx="2881440" cy="2160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867280" y="2276640"/>
            <a:ext cx="360360" cy="273672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56000" y="1197000"/>
            <a:ext cx="29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few external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2520" y="3933720"/>
            <a:ext cx="10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Verdana"/>
              </a:rPr>
              <a:t>3*3 cm</a:t>
            </a:r>
            <a:r>
              <a:rPr b="1" lang="en-US" sz="1800" spc="-1" strike="noStrike" baseline="30000">
                <a:solidFill>
                  <a:srgbClr val="3366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43880" y="6165720"/>
            <a:ext cx="17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Verdana"/>
              </a:rPr>
              <a:t>Chip On 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804000" y="828720"/>
            <a:ext cx="2736720" cy="2050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300720" y="1916280"/>
            <a:ext cx="1150920" cy="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227640" y="5157720"/>
            <a:ext cx="1657440" cy="432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35040" y="494172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MARO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92360" y="4508640"/>
            <a:ext cx="16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Verdana"/>
              </a:rPr>
              <a:t>BOTTOM 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79280" y="1363680"/>
            <a:ext cx="4103640" cy="4081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47840" cy="1000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7020000" y="2997360"/>
            <a:ext cx="2124000" cy="1403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grpSp>
        <p:nvGrpSpPr>
          <p:cNvPr id="136" name=""/>
          <p:cNvGrpSpPr/>
          <p:nvPr/>
        </p:nvGrpSpPr>
        <p:grpSpPr>
          <a:xfrm>
            <a:off x="401760" y="4437000"/>
            <a:ext cx="3090600" cy="2313360"/>
            <a:chOff x="401760" y="4437000"/>
            <a:chExt cx="3090600" cy="2313360"/>
          </a:xfrm>
        </p:grpSpPr>
        <p:pic>
          <p:nvPicPr>
            <p:cNvPr id="137" name="" descr=""/>
            <p:cNvPicPr/>
            <p:nvPr/>
          </p:nvPicPr>
          <p:blipFill>
            <a:blip r:embed="rId7"/>
            <a:stretch/>
          </p:blipFill>
          <p:spPr>
            <a:xfrm>
              <a:off x="401760" y="4437000"/>
              <a:ext cx="3090600" cy="2107800"/>
            </a:xfrm>
            <a:prstGeom prst="rect">
              <a:avLst/>
            </a:prstGeom>
            <a:ln w="25560">
              <a:solidFill>
                <a:srgbClr val="000000"/>
              </a:solidFill>
              <a:miter/>
            </a:ln>
          </p:spPr>
        </p:pic>
        <p:sp>
          <p:nvSpPr>
            <p:cNvPr id="138" name=""/>
            <p:cNvSpPr/>
            <p:nvPr/>
          </p:nvSpPr>
          <p:spPr>
            <a:xfrm>
              <a:off x="1610640" y="5962320"/>
              <a:ext cx="107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2x10x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25320" y="6382080"/>
              <a:ext cx="144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ppareill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016A-D6D9-4956-9B49-B9D5533CE41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MAROC : 64 ch MAPMT chip for ATLAS lumi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24360" y="765000"/>
            <a:ext cx="3419640" cy="59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milar to OPERA RO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w input impedance (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50-100 </a:t>
            </a:r>
            <a:r>
              <a:rPr b="0" lang="fr-FR" sz="1600" spc="-1" strike="noStrike">
                <a:solidFill>
                  <a:srgbClr val="ff3300"/>
                </a:solidFill>
                <a:latin typeface="Comic Sans MS"/>
              </a:rPr>
              <a:t>Ω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 bits gain adjustment (G=0-4) per chann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4 discriminator outputs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100% sensitivity to 1/3 photoelectron (50fC).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Counting rate up to 2 MH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mon threshold loaded by internal 10bit DAC (step 3mV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 multiplexed charge output with variable shaping 20-200ns and Track &amp; Hold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Dynamic range : 11 bits  (2fC - 5 p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rosstalk &lt; 1%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9640" cy="1000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132000" y="1960560"/>
            <a:ext cx="468360" cy="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986560" y="1125360"/>
            <a:ext cx="6618960" cy="3365280"/>
            <a:chOff x="2986560" y="1125360"/>
            <a:chExt cx="6618960" cy="3365280"/>
          </a:xfrm>
        </p:grpSpPr>
        <p:sp>
          <p:nvSpPr>
            <p:cNvPr id="145" name=""/>
            <p:cNvSpPr/>
            <p:nvPr/>
          </p:nvSpPr>
          <p:spPr>
            <a:xfrm>
              <a:off x="4574160" y="1125360"/>
              <a:ext cx="801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Hold sign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213880" y="11253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4275720" y="1276200"/>
              <a:ext cx="3766680" cy="2840040"/>
              <a:chOff x="4275720" y="1276200"/>
              <a:chExt cx="3766680" cy="2840040"/>
            </a:xfrm>
          </p:grpSpPr>
          <p:sp>
            <p:nvSpPr>
              <p:cNvPr id="148" name=""/>
              <p:cNvSpPr/>
              <p:nvPr/>
            </p:nvSpPr>
            <p:spPr>
              <a:xfrm>
                <a:off x="4275720" y="1276200"/>
                <a:ext cx="3766680" cy="2840040"/>
              </a:xfrm>
              <a:custGeom>
                <a:avLst/>
                <a:gdLst/>
                <a:ahLst/>
                <a:rect l="l" t="t" r="r" b="b"/>
                <a:pathLst>
                  <a:path w="2286" h="2791">
                    <a:moveTo>
                      <a:pt x="96" y="0"/>
                    </a:moveTo>
                    <a:lnTo>
                      <a:pt x="0" y="112"/>
                    </a:lnTo>
                    <a:lnTo>
                      <a:pt x="0" y="2791"/>
                    </a:lnTo>
                    <a:lnTo>
                      <a:pt x="2190" y="2791"/>
                    </a:lnTo>
                    <a:lnTo>
                      <a:pt x="2286" y="2679"/>
                    </a:lnTo>
                    <a:lnTo>
                      <a:pt x="2286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275720" y="1276200"/>
                <a:ext cx="3766680" cy="113760"/>
              </a:xfrm>
              <a:custGeom>
                <a:avLst/>
                <a:gdLst/>
                <a:ahLst/>
                <a:rect l="l" t="t" r="r" b="b"/>
                <a:pathLst>
                  <a:path w="2286" h="112">
                    <a:moveTo>
                      <a:pt x="0" y="112"/>
                    </a:moveTo>
                    <a:lnTo>
                      <a:pt x="2190" y="112"/>
                    </a:lnTo>
                    <a:lnTo>
                      <a:pt x="2286" y="0"/>
                    </a:lnTo>
                    <a:lnTo>
                      <a:pt x="96" y="0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ad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884360" y="1276200"/>
                <a:ext cx="158040" cy="2840040"/>
              </a:xfrm>
              <a:custGeom>
                <a:avLst/>
                <a:gdLst/>
                <a:ahLst/>
                <a:rect l="l" t="t" r="r" b="b"/>
                <a:pathLst>
                  <a:path w="96" h="2791">
                    <a:moveTo>
                      <a:pt x="0" y="112"/>
                    </a:moveTo>
                    <a:lnTo>
                      <a:pt x="96" y="0"/>
                    </a:lnTo>
                    <a:lnTo>
                      <a:pt x="96" y="2679"/>
                    </a:lnTo>
                    <a:lnTo>
                      <a:pt x="0" y="2791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7ba4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275720" y="1276200"/>
                <a:ext cx="3766680" cy="2840040"/>
              </a:xfrm>
              <a:custGeom>
                <a:avLst/>
                <a:gdLst/>
                <a:ahLst/>
                <a:rect l="l" t="t" r="r" b="b"/>
                <a:pathLst>
                  <a:path w="2286" h="2791">
                    <a:moveTo>
                      <a:pt x="96" y="0"/>
                    </a:moveTo>
                    <a:lnTo>
                      <a:pt x="0" y="112"/>
                    </a:lnTo>
                    <a:lnTo>
                      <a:pt x="0" y="2791"/>
                    </a:lnTo>
                    <a:lnTo>
                      <a:pt x="2190" y="2791"/>
                    </a:lnTo>
                    <a:lnTo>
                      <a:pt x="2286" y="2679"/>
                    </a:lnTo>
                    <a:lnTo>
                      <a:pt x="2286" y="0"/>
                    </a:lnTo>
                    <a:lnTo>
                      <a:pt x="96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275720" y="1276200"/>
                <a:ext cx="3766680" cy="113760"/>
              </a:xfrm>
              <a:custGeom>
                <a:avLst/>
                <a:gdLst/>
                <a:ahLst/>
                <a:rect l="l" t="t" r="r" b="b"/>
                <a:pathLst>
                  <a:path w="2286" h="112">
                    <a:moveTo>
                      <a:pt x="0" y="112"/>
                    </a:moveTo>
                    <a:lnTo>
                      <a:pt x="2190" y="112"/>
                    </a:lnTo>
                    <a:lnTo>
                      <a:pt x="2286" y="0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884360" y="1389960"/>
                <a:ext cx="1440" cy="272628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3206520" y="2268000"/>
              <a:ext cx="930960" cy="395640"/>
              <a:chOff x="3206520" y="2268000"/>
              <a:chExt cx="930960" cy="395640"/>
            </a:xfrm>
          </p:grpSpPr>
          <p:sp>
            <p:nvSpPr>
              <p:cNvPr id="155" name=""/>
              <p:cNvSpPr/>
              <p:nvPr/>
            </p:nvSpPr>
            <p:spPr>
              <a:xfrm>
                <a:off x="3206520" y="2268000"/>
                <a:ext cx="930960" cy="395640"/>
              </a:xfrm>
              <a:custGeom>
                <a:avLst/>
                <a:gdLst/>
                <a:ahLst/>
                <a:rect l="l" t="t" r="r" b="b"/>
                <a:pathLst>
                  <a:path w="690" h="277">
                    <a:moveTo>
                      <a:pt x="39" y="0"/>
                    </a:moveTo>
                    <a:lnTo>
                      <a:pt x="0" y="45"/>
                    </a:lnTo>
                    <a:lnTo>
                      <a:pt x="0" y="277"/>
                    </a:lnTo>
                    <a:lnTo>
                      <a:pt x="652" y="277"/>
                    </a:lnTo>
                    <a:lnTo>
                      <a:pt x="690" y="232"/>
                    </a:lnTo>
                    <a:lnTo>
                      <a:pt x="690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06520" y="2268000"/>
                <a:ext cx="930960" cy="64080"/>
              </a:xfrm>
              <a:custGeom>
                <a:avLst/>
                <a:gdLst/>
                <a:ahLst/>
                <a:rect l="l" t="t" r="r" b="b"/>
                <a:pathLst>
                  <a:path w="690" h="45">
                    <a:moveTo>
                      <a:pt x="0" y="45"/>
                    </a:moveTo>
                    <a:lnTo>
                      <a:pt x="652" y="45"/>
                    </a:lnTo>
                    <a:lnTo>
                      <a:pt x="690" y="0"/>
                    </a:lnTo>
                    <a:lnTo>
                      <a:pt x="39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d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086000" y="2268000"/>
                <a:ext cx="51120" cy="395640"/>
              </a:xfrm>
              <a:custGeom>
                <a:avLst/>
                <a:gdLst/>
                <a:ahLst/>
                <a:rect l="l" t="t" r="r" b="b"/>
                <a:pathLst>
                  <a:path w="38" h="277">
                    <a:moveTo>
                      <a:pt x="0" y="45"/>
                    </a:moveTo>
                    <a:lnTo>
                      <a:pt x="38" y="0"/>
                    </a:lnTo>
                    <a:lnTo>
                      <a:pt x="38" y="232"/>
                    </a:lnTo>
                    <a:lnTo>
                      <a:pt x="0" y="277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7ba4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206520" y="2268000"/>
                <a:ext cx="930960" cy="395640"/>
              </a:xfrm>
              <a:custGeom>
                <a:avLst/>
                <a:gdLst/>
                <a:ahLst/>
                <a:rect l="l" t="t" r="r" b="b"/>
                <a:pathLst>
                  <a:path w="690" h="277">
                    <a:moveTo>
                      <a:pt x="39" y="0"/>
                    </a:moveTo>
                    <a:lnTo>
                      <a:pt x="0" y="45"/>
                    </a:lnTo>
                    <a:lnTo>
                      <a:pt x="0" y="277"/>
                    </a:lnTo>
                    <a:lnTo>
                      <a:pt x="652" y="277"/>
                    </a:lnTo>
                    <a:lnTo>
                      <a:pt x="690" y="232"/>
                    </a:lnTo>
                    <a:lnTo>
                      <a:pt x="690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206520" y="2268000"/>
                <a:ext cx="930960" cy="64080"/>
              </a:xfrm>
              <a:custGeom>
                <a:avLst/>
                <a:gdLst/>
                <a:ahLst/>
                <a:rect l="l" t="t" r="r" b="b"/>
                <a:pathLst>
                  <a:path w="690" h="45">
                    <a:moveTo>
                      <a:pt x="0" y="45"/>
                    </a:moveTo>
                    <a:lnTo>
                      <a:pt x="652" y="45"/>
                    </a:lnTo>
                    <a:lnTo>
                      <a:pt x="690" y="0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086000" y="2332080"/>
                <a:ext cx="1440" cy="33120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3146040" y="2330640"/>
              <a:ext cx="94824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Times New Roman"/>
                </a:rPr>
                <a:t>Photomultipli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Times New Roman"/>
                </a:rPr>
                <a:t>64 channe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035240" y="243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3035880" y="2059920"/>
              <a:ext cx="214560" cy="262440"/>
              <a:chOff x="3035880" y="2059920"/>
              <a:chExt cx="214560" cy="262440"/>
            </a:xfrm>
          </p:grpSpPr>
          <p:sp>
            <p:nvSpPr>
              <p:cNvPr id="164" name=""/>
              <p:cNvSpPr/>
              <p:nvPr/>
            </p:nvSpPr>
            <p:spPr>
              <a:xfrm>
                <a:off x="3035880" y="2059920"/>
                <a:ext cx="167400" cy="13068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3082680" y="2190600"/>
                <a:ext cx="119880" cy="108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078000" y="2184840"/>
                <a:ext cx="172440" cy="137520"/>
              </a:xfrm>
              <a:custGeom>
                <a:avLst/>
                <a:gdLst/>
                <a:ahLst/>
                <a:rect l="l" t="t" r="r" b="b"/>
                <a:pathLst>
                  <a:path w="2736" h="1986">
                    <a:moveTo>
                      <a:pt x="115" y="21"/>
                    </a:moveTo>
                    <a:lnTo>
                      <a:pt x="2449" y="1683"/>
                    </a:lnTo>
                    <a:cubicBezTo>
                      <a:pt x="2479" y="1704"/>
                      <a:pt x="2486" y="1746"/>
                      <a:pt x="2465" y="1776"/>
                    </a:cubicBezTo>
                    <a:cubicBezTo>
                      <a:pt x="2443" y="1806"/>
                      <a:pt x="2402" y="1813"/>
                      <a:pt x="2372" y="1791"/>
                    </a:cubicBezTo>
                    <a:lnTo>
                      <a:pt x="37" y="130"/>
                    </a:lnTo>
                    <a:cubicBezTo>
                      <a:pt x="7" y="109"/>
                      <a:pt x="0" y="67"/>
                      <a:pt x="22" y="37"/>
                    </a:cubicBezTo>
                    <a:cubicBezTo>
                      <a:pt x="43" y="7"/>
                      <a:pt x="85" y="0"/>
                      <a:pt x="115" y="21"/>
                    </a:cubicBezTo>
                    <a:close/>
                    <a:moveTo>
                      <a:pt x="2534" y="1334"/>
                    </a:moveTo>
                    <a:lnTo>
                      <a:pt x="2736" y="1969"/>
                    </a:lnTo>
                    <a:lnTo>
                      <a:pt x="2070" y="1986"/>
                    </a:lnTo>
                    <a:lnTo>
                      <a:pt x="2534" y="133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3035880" y="1927080"/>
              <a:ext cx="358560" cy="13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86560" y="1931040"/>
              <a:ext cx="49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hot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77160" y="1931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4371120" y="2111760"/>
              <a:ext cx="405720" cy="658440"/>
              <a:chOff x="4371120" y="2111760"/>
              <a:chExt cx="405720" cy="658440"/>
            </a:xfrm>
          </p:grpSpPr>
          <p:sp>
            <p:nvSpPr>
              <p:cNvPr id="171" name=""/>
              <p:cNvSpPr/>
              <p:nvPr/>
            </p:nvSpPr>
            <p:spPr>
              <a:xfrm>
                <a:off x="4371120" y="2111760"/>
                <a:ext cx="405720" cy="65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371120" y="2111760"/>
                <a:ext cx="405720" cy="6584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4305600" y="2083680"/>
              <a:ext cx="48888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Times New Roman"/>
                </a:rPr>
                <a:t>Variabl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Times New Roman"/>
                </a:rPr>
                <a:t>Gai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Times New Roman"/>
                </a:rPr>
                <a:t>Preamp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59560" y="23731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4981320" y="1559520"/>
              <a:ext cx="723960" cy="507600"/>
              <a:chOff x="4981320" y="1559520"/>
              <a:chExt cx="723960" cy="507600"/>
            </a:xfrm>
          </p:grpSpPr>
          <p:sp>
            <p:nvSpPr>
              <p:cNvPr id="176" name=""/>
              <p:cNvSpPr/>
              <p:nvPr/>
            </p:nvSpPr>
            <p:spPr>
              <a:xfrm>
                <a:off x="4981320" y="1559520"/>
                <a:ext cx="723960" cy="50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981320" y="1559520"/>
                <a:ext cx="723960" cy="5076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4981320" y="1550160"/>
              <a:ext cx="7189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Vari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Slow Shap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20-100 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35800" y="15926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6064200" y="1559520"/>
              <a:ext cx="529200" cy="186840"/>
              <a:chOff x="6064200" y="1559520"/>
              <a:chExt cx="529200" cy="186840"/>
            </a:xfrm>
          </p:grpSpPr>
          <p:sp>
            <p:nvSpPr>
              <p:cNvPr id="181" name=""/>
              <p:cNvSpPr/>
              <p:nvPr/>
            </p:nvSpPr>
            <p:spPr>
              <a:xfrm>
                <a:off x="6064200" y="1559520"/>
                <a:ext cx="529200" cy="18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064200" y="1559520"/>
                <a:ext cx="529200" cy="186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6195240" y="1592640"/>
              <a:ext cx="33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&amp;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55160" y="15926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85280" y="2426400"/>
              <a:ext cx="285840" cy="54360"/>
            </a:xfrm>
            <a:custGeom>
              <a:avLst/>
              <a:gdLst/>
              <a:ahLst/>
              <a:rect l="l" t="t" r="r" b="b"/>
              <a:pathLst>
                <a:path w="237" h="48">
                  <a:moveTo>
                    <a:pt x="0" y="18"/>
                  </a:moveTo>
                  <a:lnTo>
                    <a:pt x="202" y="18"/>
                  </a:lnTo>
                  <a:lnTo>
                    <a:pt x="202" y="30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195" y="0"/>
                  </a:moveTo>
                  <a:lnTo>
                    <a:pt x="237" y="24"/>
                  </a:lnTo>
                  <a:lnTo>
                    <a:pt x="195" y="48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4990680" y="2282760"/>
              <a:ext cx="714600" cy="314640"/>
              <a:chOff x="4990680" y="2282760"/>
              <a:chExt cx="714600" cy="314640"/>
            </a:xfrm>
          </p:grpSpPr>
          <p:sp>
            <p:nvSpPr>
              <p:cNvPr id="187" name=""/>
              <p:cNvSpPr/>
              <p:nvPr/>
            </p:nvSpPr>
            <p:spPr>
              <a:xfrm>
                <a:off x="4990680" y="2282760"/>
                <a:ext cx="714600" cy="314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990680" y="2282760"/>
                <a:ext cx="714600" cy="3146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4981320" y="2274840"/>
              <a:ext cx="737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Bipol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Fast Shap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65960" y="2441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81320" y="2998800"/>
              <a:ext cx="714600" cy="5479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Unipola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Fast Shap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6064200" y="2325240"/>
              <a:ext cx="357120" cy="252000"/>
              <a:chOff x="6064200" y="2325240"/>
              <a:chExt cx="357120" cy="25200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6064200" y="2325240"/>
                <a:ext cx="357120" cy="252000"/>
                <a:chOff x="6064200" y="2325240"/>
                <a:chExt cx="357120" cy="25200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064200" y="2325240"/>
                  <a:ext cx="357120" cy="252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064200" y="2325240"/>
                  <a:ext cx="357120" cy="252000"/>
                </a:xfrm>
                <a:prstGeom prst="rect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6114960" y="2368440"/>
                <a:ext cx="203400" cy="156240"/>
                <a:chOff x="6114960" y="2368440"/>
                <a:chExt cx="203400" cy="156240"/>
              </a:xfrm>
            </p:grpSpPr>
            <p:sp>
              <p:nvSpPr>
                <p:cNvPr id="197" name=""/>
                <p:cNvSpPr/>
                <p:nvPr/>
              </p:nvSpPr>
              <p:spPr>
                <a:xfrm flipV="1">
                  <a:off x="6114960" y="2524320"/>
                  <a:ext cx="102240" cy="36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V="1">
                  <a:off x="6217200" y="2368440"/>
                  <a:ext cx="1080" cy="1562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217200" y="2368440"/>
                  <a:ext cx="101160" cy="7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0" name=""/>
            <p:cNvGrpSpPr/>
            <p:nvPr/>
          </p:nvGrpSpPr>
          <p:grpSpPr>
            <a:xfrm>
              <a:off x="6064200" y="3017160"/>
              <a:ext cx="357120" cy="240480"/>
              <a:chOff x="6064200" y="3017160"/>
              <a:chExt cx="357120" cy="24048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6064200" y="3017160"/>
                <a:ext cx="357120" cy="240480"/>
                <a:chOff x="6064200" y="3017160"/>
                <a:chExt cx="357120" cy="2404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064200" y="3017160"/>
                  <a:ext cx="357120" cy="24048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064200" y="3017160"/>
                  <a:ext cx="357120" cy="240480"/>
                </a:xfrm>
                <a:prstGeom prst="rect">
                  <a:avLst/>
                </a:prstGeom>
                <a:solidFill>
                  <a:srgbClr val="99ff99"/>
                </a:solidFill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114960" y="3058200"/>
                <a:ext cx="203400" cy="149760"/>
                <a:chOff x="6114960" y="3058200"/>
                <a:chExt cx="203400" cy="149760"/>
              </a:xfrm>
            </p:grpSpPr>
            <p:sp>
              <p:nvSpPr>
                <p:cNvPr id="205" name=""/>
                <p:cNvSpPr/>
                <p:nvPr/>
              </p:nvSpPr>
              <p:spPr>
                <a:xfrm flipV="1">
                  <a:off x="6114960" y="3207240"/>
                  <a:ext cx="102240" cy="7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V="1">
                  <a:off x="6217200" y="3058200"/>
                  <a:ext cx="1080" cy="1490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217200" y="3058200"/>
                  <a:ext cx="101160" cy="10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8" name=""/>
            <p:cNvSpPr/>
            <p:nvPr/>
          </p:nvSpPr>
          <p:spPr>
            <a:xfrm>
              <a:off x="4777200" y="1625760"/>
              <a:ext cx="213480" cy="820440"/>
            </a:xfrm>
            <a:custGeom>
              <a:avLst/>
              <a:gdLst/>
              <a:ahLst/>
              <a:rect l="l" t="t" r="r" b="b"/>
              <a:pathLst>
                <a:path w="177" h="721">
                  <a:moveTo>
                    <a:pt x="0" y="709"/>
                  </a:moveTo>
                  <a:lnTo>
                    <a:pt x="89" y="709"/>
                  </a:lnTo>
                  <a:lnTo>
                    <a:pt x="83" y="715"/>
                  </a:lnTo>
                  <a:lnTo>
                    <a:pt x="83" y="18"/>
                  </a:lnTo>
                  <a:lnTo>
                    <a:pt x="143" y="18"/>
                  </a:lnTo>
                  <a:lnTo>
                    <a:pt x="143" y="31"/>
                  </a:lnTo>
                  <a:lnTo>
                    <a:pt x="89" y="31"/>
                  </a:lnTo>
                  <a:lnTo>
                    <a:pt x="94" y="25"/>
                  </a:lnTo>
                  <a:lnTo>
                    <a:pt x="94" y="721"/>
                  </a:lnTo>
                  <a:lnTo>
                    <a:pt x="0" y="721"/>
                  </a:lnTo>
                  <a:lnTo>
                    <a:pt x="0" y="709"/>
                  </a:lnTo>
                  <a:close/>
                  <a:moveTo>
                    <a:pt x="136" y="0"/>
                  </a:moveTo>
                  <a:lnTo>
                    <a:pt x="177" y="25"/>
                  </a:lnTo>
                  <a:lnTo>
                    <a:pt x="136" y="49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77200" y="2413080"/>
              <a:ext cx="213480" cy="55440"/>
            </a:xfrm>
            <a:custGeom>
              <a:avLst/>
              <a:gdLst/>
              <a:ahLst/>
              <a:rect l="l" t="t" r="r" b="b"/>
              <a:pathLst>
                <a:path w="177" h="49">
                  <a:moveTo>
                    <a:pt x="0" y="18"/>
                  </a:moveTo>
                  <a:lnTo>
                    <a:pt x="143" y="19"/>
                  </a:lnTo>
                  <a:lnTo>
                    <a:pt x="143" y="31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136" y="0"/>
                  </a:moveTo>
                  <a:lnTo>
                    <a:pt x="177" y="25"/>
                  </a:lnTo>
                  <a:lnTo>
                    <a:pt x="136" y="49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77200" y="2432880"/>
              <a:ext cx="213480" cy="732600"/>
            </a:xfrm>
            <a:custGeom>
              <a:avLst/>
              <a:gdLst/>
              <a:ahLst/>
              <a:rect l="l" t="t" r="r" b="b"/>
              <a:pathLst>
                <a:path w="177" h="643">
                  <a:moveTo>
                    <a:pt x="0" y="0"/>
                  </a:moveTo>
                  <a:lnTo>
                    <a:pt x="94" y="0"/>
                  </a:lnTo>
                  <a:lnTo>
                    <a:pt x="94" y="618"/>
                  </a:lnTo>
                  <a:lnTo>
                    <a:pt x="89" y="612"/>
                  </a:lnTo>
                  <a:lnTo>
                    <a:pt x="143" y="612"/>
                  </a:lnTo>
                  <a:lnTo>
                    <a:pt x="143" y="624"/>
                  </a:lnTo>
                  <a:lnTo>
                    <a:pt x="83" y="624"/>
                  </a:lnTo>
                  <a:lnTo>
                    <a:pt x="83" y="6"/>
                  </a:lnTo>
                  <a:lnTo>
                    <a:pt x="89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136" y="594"/>
                  </a:moveTo>
                  <a:lnTo>
                    <a:pt x="177" y="618"/>
                  </a:lnTo>
                  <a:lnTo>
                    <a:pt x="136" y="643"/>
                  </a:lnTo>
                  <a:lnTo>
                    <a:pt x="136" y="59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05280" y="1626840"/>
              <a:ext cx="358560" cy="54360"/>
            </a:xfrm>
            <a:custGeom>
              <a:avLst/>
              <a:gdLst/>
              <a:ahLst/>
              <a:rect l="l" t="t" r="r" b="b"/>
              <a:pathLst>
                <a:path w="296" h="48">
                  <a:moveTo>
                    <a:pt x="0" y="18"/>
                  </a:moveTo>
                  <a:lnTo>
                    <a:pt x="261" y="18"/>
                  </a:lnTo>
                  <a:lnTo>
                    <a:pt x="261" y="30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254" y="0"/>
                  </a:moveTo>
                  <a:lnTo>
                    <a:pt x="296" y="24"/>
                  </a:lnTo>
                  <a:lnTo>
                    <a:pt x="254" y="48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05280" y="2413080"/>
              <a:ext cx="358560" cy="55440"/>
            </a:xfrm>
            <a:custGeom>
              <a:avLst/>
              <a:gdLst/>
              <a:ahLst/>
              <a:rect l="l" t="t" r="r" b="b"/>
              <a:pathLst>
                <a:path w="296" h="48">
                  <a:moveTo>
                    <a:pt x="0" y="17"/>
                  </a:moveTo>
                  <a:lnTo>
                    <a:pt x="261" y="18"/>
                  </a:lnTo>
                  <a:lnTo>
                    <a:pt x="261" y="30"/>
                  </a:lnTo>
                  <a:lnTo>
                    <a:pt x="0" y="30"/>
                  </a:lnTo>
                  <a:lnTo>
                    <a:pt x="0" y="17"/>
                  </a:lnTo>
                  <a:close/>
                  <a:moveTo>
                    <a:pt x="254" y="0"/>
                  </a:moveTo>
                  <a:lnTo>
                    <a:pt x="296" y="24"/>
                  </a:lnTo>
                  <a:lnTo>
                    <a:pt x="254" y="48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5280" y="3110040"/>
              <a:ext cx="358560" cy="55440"/>
            </a:xfrm>
            <a:custGeom>
              <a:avLst/>
              <a:gdLst/>
              <a:ahLst/>
              <a:rect l="l" t="t" r="r" b="b"/>
              <a:pathLst>
                <a:path w="296" h="49">
                  <a:moveTo>
                    <a:pt x="0" y="18"/>
                  </a:moveTo>
                  <a:lnTo>
                    <a:pt x="261" y="19"/>
                  </a:lnTo>
                  <a:lnTo>
                    <a:pt x="261" y="31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254" y="0"/>
                  </a:moveTo>
                  <a:lnTo>
                    <a:pt x="296" y="25"/>
                  </a:lnTo>
                  <a:lnTo>
                    <a:pt x="254" y="49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05280" y="3129840"/>
              <a:ext cx="358560" cy="691920"/>
            </a:xfrm>
            <a:custGeom>
              <a:avLst/>
              <a:gdLst/>
              <a:ahLst/>
              <a:rect l="l" t="t" r="r" b="b"/>
              <a:pathLst>
                <a:path w="296" h="708">
                  <a:moveTo>
                    <a:pt x="0" y="0"/>
                  </a:moveTo>
                  <a:lnTo>
                    <a:pt x="153" y="0"/>
                  </a:lnTo>
                  <a:lnTo>
                    <a:pt x="153" y="684"/>
                  </a:lnTo>
                  <a:lnTo>
                    <a:pt x="148" y="678"/>
                  </a:lnTo>
                  <a:lnTo>
                    <a:pt x="261" y="678"/>
                  </a:lnTo>
                  <a:lnTo>
                    <a:pt x="261" y="690"/>
                  </a:lnTo>
                  <a:lnTo>
                    <a:pt x="143" y="690"/>
                  </a:lnTo>
                  <a:lnTo>
                    <a:pt x="143" y="6"/>
                  </a:lnTo>
                  <a:lnTo>
                    <a:pt x="148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254" y="660"/>
                  </a:moveTo>
                  <a:lnTo>
                    <a:pt x="296" y="684"/>
                  </a:lnTo>
                  <a:lnTo>
                    <a:pt x="254" y="708"/>
                  </a:lnTo>
                  <a:lnTo>
                    <a:pt x="254" y="66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5705280" y="2428200"/>
              <a:ext cx="342720" cy="700920"/>
            </a:xfrm>
            <a:custGeom>
              <a:avLst/>
              <a:gdLst/>
              <a:ahLst/>
              <a:rect l="l" t="t" r="r" b="b"/>
              <a:pathLst>
                <a:path w="296" h="994">
                  <a:moveTo>
                    <a:pt x="0" y="0"/>
                  </a:moveTo>
                  <a:lnTo>
                    <a:pt x="153" y="0"/>
                  </a:lnTo>
                  <a:lnTo>
                    <a:pt x="153" y="970"/>
                  </a:lnTo>
                  <a:lnTo>
                    <a:pt x="148" y="964"/>
                  </a:lnTo>
                  <a:lnTo>
                    <a:pt x="261" y="964"/>
                  </a:lnTo>
                  <a:lnTo>
                    <a:pt x="261" y="976"/>
                  </a:lnTo>
                  <a:lnTo>
                    <a:pt x="143" y="976"/>
                  </a:lnTo>
                  <a:lnTo>
                    <a:pt x="143" y="6"/>
                  </a:lnTo>
                  <a:lnTo>
                    <a:pt x="148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254" y="946"/>
                  </a:moveTo>
                  <a:lnTo>
                    <a:pt x="296" y="970"/>
                  </a:lnTo>
                  <a:lnTo>
                    <a:pt x="254" y="994"/>
                  </a:lnTo>
                  <a:lnTo>
                    <a:pt x="254" y="94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20240" y="2441160"/>
              <a:ext cx="294120" cy="696960"/>
            </a:xfrm>
            <a:custGeom>
              <a:avLst/>
              <a:gdLst/>
              <a:ahLst/>
              <a:rect l="l" t="t" r="r" b="b"/>
              <a:pathLst>
                <a:path w="270" h="612">
                  <a:moveTo>
                    <a:pt x="0" y="0"/>
                  </a:moveTo>
                  <a:lnTo>
                    <a:pt x="270" y="0"/>
                  </a:lnTo>
                  <a:lnTo>
                    <a:pt x="270" y="612"/>
                  </a:lnTo>
                  <a:lnTo>
                    <a:pt x="0" y="61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420240" y="3139200"/>
              <a:ext cx="294120" cy="770040"/>
            </a:xfrm>
            <a:custGeom>
              <a:avLst/>
              <a:gdLst/>
              <a:ahLst/>
              <a:rect l="l" t="t" r="r" b="b"/>
              <a:pathLst>
                <a:path w="125" h="677">
                  <a:moveTo>
                    <a:pt x="0" y="0"/>
                  </a:moveTo>
                  <a:lnTo>
                    <a:pt x="125" y="0"/>
                  </a:lnTo>
                  <a:lnTo>
                    <a:pt x="125" y="677"/>
                  </a:lnTo>
                  <a:lnTo>
                    <a:pt x="1" y="67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99960" y="3136680"/>
              <a:ext cx="443160" cy="53280"/>
            </a:xfrm>
            <a:custGeom>
              <a:avLst/>
              <a:gdLst/>
              <a:ahLst/>
              <a:rect l="l" t="t" r="r" b="b"/>
              <a:pathLst>
                <a:path w="280" h="49">
                  <a:moveTo>
                    <a:pt x="0" y="18"/>
                  </a:moveTo>
                  <a:lnTo>
                    <a:pt x="245" y="19"/>
                  </a:lnTo>
                  <a:lnTo>
                    <a:pt x="245" y="31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238" y="0"/>
                  </a:moveTo>
                  <a:lnTo>
                    <a:pt x="280" y="25"/>
                  </a:lnTo>
                  <a:lnTo>
                    <a:pt x="238" y="49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593400" y="1607040"/>
              <a:ext cx="1610640" cy="80640"/>
            </a:xfrm>
            <a:custGeom>
              <a:avLst/>
              <a:gdLst/>
              <a:ahLst/>
              <a:rect l="l" t="t" r="r" b="b"/>
              <a:pathLst>
                <a:path w="284" h="49">
                  <a:moveTo>
                    <a:pt x="0" y="18"/>
                  </a:moveTo>
                  <a:lnTo>
                    <a:pt x="250" y="19"/>
                  </a:lnTo>
                  <a:lnTo>
                    <a:pt x="250" y="31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243" y="0"/>
                  </a:moveTo>
                  <a:lnTo>
                    <a:pt x="284" y="25"/>
                  </a:lnTo>
                  <a:lnTo>
                    <a:pt x="243" y="49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70800" y="3050280"/>
              <a:ext cx="1219680" cy="3963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Gain correc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64*6bit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13360" y="31021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09600" y="32400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129560" y="2770200"/>
              <a:ext cx="468720" cy="467280"/>
            </a:xfrm>
            <a:custGeom>
              <a:avLst/>
              <a:gdLst/>
              <a:ahLst/>
              <a:rect l="l" t="t" r="r" b="b"/>
              <a:pathLst>
                <a:path w="7500" h="6773">
                  <a:moveTo>
                    <a:pt x="67" y="6640"/>
                  </a:moveTo>
                  <a:lnTo>
                    <a:pt x="7100" y="6640"/>
                  </a:lnTo>
                  <a:lnTo>
                    <a:pt x="7033" y="6706"/>
                  </a:lnTo>
                  <a:lnTo>
                    <a:pt x="7033" y="666"/>
                  </a:lnTo>
                  <a:cubicBezTo>
                    <a:pt x="7033" y="630"/>
                    <a:pt x="7063" y="600"/>
                    <a:pt x="7100" y="600"/>
                  </a:cubicBezTo>
                  <a:cubicBezTo>
                    <a:pt x="7137" y="600"/>
                    <a:pt x="7167" y="630"/>
                    <a:pt x="7167" y="666"/>
                  </a:cubicBezTo>
                  <a:lnTo>
                    <a:pt x="7167" y="6706"/>
                  </a:lnTo>
                  <a:cubicBezTo>
                    <a:pt x="7167" y="6743"/>
                    <a:pt x="7137" y="6773"/>
                    <a:pt x="7100" y="6773"/>
                  </a:cubicBezTo>
                  <a:lnTo>
                    <a:pt x="67" y="6773"/>
                  </a:lnTo>
                  <a:cubicBezTo>
                    <a:pt x="30" y="6773"/>
                    <a:pt x="0" y="6743"/>
                    <a:pt x="0" y="6706"/>
                  </a:cubicBezTo>
                  <a:cubicBezTo>
                    <a:pt x="0" y="6670"/>
                    <a:pt x="30" y="6640"/>
                    <a:pt x="67" y="6640"/>
                  </a:cubicBezTo>
                  <a:close/>
                  <a:moveTo>
                    <a:pt x="6700" y="800"/>
                  </a:moveTo>
                  <a:lnTo>
                    <a:pt x="7100" y="0"/>
                  </a:lnTo>
                  <a:lnTo>
                    <a:pt x="7500" y="800"/>
                  </a:lnTo>
                  <a:lnTo>
                    <a:pt x="6700" y="80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21160" y="1187640"/>
              <a:ext cx="1032840" cy="371520"/>
            </a:xfrm>
            <a:custGeom>
              <a:avLst/>
              <a:gdLst/>
              <a:ahLst/>
              <a:rect l="l" t="t" r="r" b="b"/>
              <a:pathLst>
                <a:path w="8236" h="2687">
                  <a:moveTo>
                    <a:pt x="33" y="0"/>
                  </a:moveTo>
                  <a:lnTo>
                    <a:pt x="8036" y="0"/>
                  </a:lnTo>
                  <a:cubicBezTo>
                    <a:pt x="8055" y="0"/>
                    <a:pt x="8070" y="15"/>
                    <a:pt x="8070" y="34"/>
                  </a:cubicBezTo>
                  <a:lnTo>
                    <a:pt x="8070" y="2354"/>
                  </a:lnTo>
                  <a:cubicBezTo>
                    <a:pt x="8070" y="2372"/>
                    <a:pt x="8055" y="2387"/>
                    <a:pt x="8036" y="2387"/>
                  </a:cubicBezTo>
                  <a:cubicBezTo>
                    <a:pt x="8018" y="2387"/>
                    <a:pt x="8003" y="2372"/>
                    <a:pt x="8003" y="2354"/>
                  </a:cubicBezTo>
                  <a:lnTo>
                    <a:pt x="8003" y="34"/>
                  </a:lnTo>
                  <a:lnTo>
                    <a:pt x="8036" y="67"/>
                  </a:lnTo>
                  <a:lnTo>
                    <a:pt x="33" y="67"/>
                  </a:lnTo>
                  <a:cubicBezTo>
                    <a:pt x="15" y="67"/>
                    <a:pt x="0" y="52"/>
                    <a:pt x="0" y="34"/>
                  </a:cubicBezTo>
                  <a:cubicBezTo>
                    <a:pt x="0" y="15"/>
                    <a:pt x="15" y="0"/>
                    <a:pt x="33" y="0"/>
                  </a:cubicBezTo>
                  <a:close/>
                  <a:moveTo>
                    <a:pt x="8236" y="2287"/>
                  </a:moveTo>
                  <a:lnTo>
                    <a:pt x="8036" y="2687"/>
                  </a:lnTo>
                  <a:lnTo>
                    <a:pt x="7836" y="2287"/>
                  </a:lnTo>
                  <a:lnTo>
                    <a:pt x="8236" y="228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26680" y="3820320"/>
              <a:ext cx="875880" cy="5943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3 discri thresholds (3*12 bits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141040" y="1365480"/>
              <a:ext cx="10681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Multiplex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Analog charge outpu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66480" y="16376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732640" y="35071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531120" y="29365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414840" y="2514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5400000">
              <a:off x="6294960" y="2514960"/>
              <a:ext cx="42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5400000">
              <a:off x="6178680" y="2426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5400000">
              <a:off x="6062760" y="2514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5400000">
              <a:off x="5943240" y="2514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5400000">
              <a:off x="5821200" y="2514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5400000">
              <a:off x="5704560" y="2514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11960" y="42426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49600" y="4307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6048000" y="3718080"/>
              <a:ext cx="381240" cy="220320"/>
              <a:chOff x="6048000" y="3718080"/>
              <a:chExt cx="381240" cy="220320"/>
            </a:xfrm>
          </p:grpSpPr>
          <p:grpSp>
            <p:nvGrpSpPr>
              <p:cNvPr id="240" name=""/>
              <p:cNvGrpSpPr/>
              <p:nvPr/>
            </p:nvGrpSpPr>
            <p:grpSpPr>
              <a:xfrm>
                <a:off x="6048000" y="3718080"/>
                <a:ext cx="381240" cy="220320"/>
                <a:chOff x="6048000" y="3718080"/>
                <a:chExt cx="381240" cy="2203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048000" y="3718080"/>
                  <a:ext cx="381240" cy="22032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048000" y="3718080"/>
                  <a:ext cx="381240" cy="220320"/>
                </a:xfrm>
                <a:prstGeom prst="rect">
                  <a:avLst/>
                </a:prstGeom>
                <a:solidFill>
                  <a:srgbClr val="99ff99"/>
                </a:solidFill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102360" y="3755160"/>
                <a:ext cx="217440" cy="137160"/>
                <a:chOff x="6102360" y="3755160"/>
                <a:chExt cx="217440" cy="13716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6102360" y="3891240"/>
                  <a:ext cx="108720" cy="10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V="1">
                  <a:off x="6211080" y="3755160"/>
                  <a:ext cx="1080" cy="1360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211080" y="3755160"/>
                  <a:ext cx="108720" cy="10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7" name=""/>
            <p:cNvSpPr/>
            <p:nvPr/>
          </p:nvSpPr>
          <p:spPr>
            <a:xfrm>
              <a:off x="6078960" y="3963960"/>
              <a:ext cx="276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LUCI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6048000" y="1881720"/>
              <a:ext cx="529200" cy="185760"/>
              <a:chOff x="6048000" y="1881720"/>
              <a:chExt cx="529200" cy="185760"/>
            </a:xfrm>
          </p:grpSpPr>
          <p:sp>
            <p:nvSpPr>
              <p:cNvPr id="249" name=""/>
              <p:cNvSpPr/>
              <p:nvPr/>
            </p:nvSpPr>
            <p:spPr>
              <a:xfrm>
                <a:off x="6048000" y="1881720"/>
                <a:ext cx="529200" cy="18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048000" y="1881720"/>
                <a:ext cx="529200" cy="1857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6180480" y="1912680"/>
              <a:ext cx="33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&amp;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17520" y="1654920"/>
              <a:ext cx="357120" cy="309240"/>
            </a:xfrm>
            <a:custGeom>
              <a:avLst/>
              <a:gdLst/>
              <a:ahLst/>
              <a:rect l="l" t="t" r="r" b="b"/>
              <a:pathLst>
                <a:path w="296" h="708">
                  <a:moveTo>
                    <a:pt x="0" y="0"/>
                  </a:moveTo>
                  <a:lnTo>
                    <a:pt x="153" y="0"/>
                  </a:lnTo>
                  <a:lnTo>
                    <a:pt x="153" y="684"/>
                  </a:lnTo>
                  <a:lnTo>
                    <a:pt x="148" y="678"/>
                  </a:lnTo>
                  <a:lnTo>
                    <a:pt x="261" y="678"/>
                  </a:lnTo>
                  <a:lnTo>
                    <a:pt x="261" y="690"/>
                  </a:lnTo>
                  <a:lnTo>
                    <a:pt x="143" y="690"/>
                  </a:lnTo>
                  <a:lnTo>
                    <a:pt x="143" y="6"/>
                  </a:lnTo>
                  <a:lnTo>
                    <a:pt x="148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254" y="660"/>
                  </a:moveTo>
                  <a:lnTo>
                    <a:pt x="296" y="684"/>
                  </a:lnTo>
                  <a:lnTo>
                    <a:pt x="254" y="708"/>
                  </a:lnTo>
                  <a:lnTo>
                    <a:pt x="254" y="66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44960" y="3654360"/>
              <a:ext cx="713520" cy="365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3 DA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12 bi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878520" y="2994480"/>
              <a:ext cx="711720" cy="365400"/>
            </a:xfrm>
            <a:prstGeom prst="rect">
              <a:avLst/>
            </a:prstGeom>
            <a:solidFill>
              <a:srgbClr val="99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80 MHz enco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78520" y="1929600"/>
              <a:ext cx="711720" cy="730440"/>
            </a:xfrm>
            <a:prstGeom prst="rect">
              <a:avLst/>
            </a:prstGeom>
            <a:solidFill>
              <a:srgbClr val="99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64  Wilkinson 12 bit AD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597080" y="2049120"/>
              <a:ext cx="667800" cy="58320"/>
            </a:xfrm>
            <a:custGeom>
              <a:avLst/>
              <a:gdLst/>
              <a:ahLst/>
              <a:rect l="l" t="t" r="r" b="b"/>
              <a:pathLst>
                <a:path w="284" h="49">
                  <a:moveTo>
                    <a:pt x="0" y="18"/>
                  </a:moveTo>
                  <a:lnTo>
                    <a:pt x="250" y="19"/>
                  </a:lnTo>
                  <a:lnTo>
                    <a:pt x="250" y="31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243" y="0"/>
                  </a:moveTo>
                  <a:lnTo>
                    <a:pt x="284" y="25"/>
                  </a:lnTo>
                  <a:lnTo>
                    <a:pt x="243" y="49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91520" y="1739880"/>
              <a:ext cx="358560" cy="309240"/>
            </a:xfrm>
            <a:custGeom>
              <a:avLst/>
              <a:gdLst/>
              <a:ahLst/>
              <a:rect l="l" t="t" r="r" b="b"/>
              <a:pathLst>
                <a:path w="296" h="708">
                  <a:moveTo>
                    <a:pt x="0" y="0"/>
                  </a:moveTo>
                  <a:lnTo>
                    <a:pt x="153" y="0"/>
                  </a:lnTo>
                  <a:lnTo>
                    <a:pt x="153" y="684"/>
                  </a:lnTo>
                  <a:lnTo>
                    <a:pt x="148" y="678"/>
                  </a:lnTo>
                  <a:lnTo>
                    <a:pt x="261" y="678"/>
                  </a:lnTo>
                  <a:lnTo>
                    <a:pt x="261" y="690"/>
                  </a:lnTo>
                  <a:lnTo>
                    <a:pt x="143" y="690"/>
                  </a:lnTo>
                  <a:lnTo>
                    <a:pt x="143" y="6"/>
                  </a:lnTo>
                  <a:lnTo>
                    <a:pt x="148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254" y="660"/>
                  </a:moveTo>
                  <a:lnTo>
                    <a:pt x="296" y="684"/>
                  </a:lnTo>
                  <a:lnTo>
                    <a:pt x="254" y="708"/>
                  </a:lnTo>
                  <a:lnTo>
                    <a:pt x="254" y="66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82000" y="2871000"/>
              <a:ext cx="1523520" cy="7304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64 trigger outputs (to FPG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14800" y="3756960"/>
              <a:ext cx="835560" cy="51480"/>
            </a:xfrm>
            <a:custGeom>
              <a:avLst/>
              <a:gdLst/>
              <a:ahLst/>
              <a:rect l="l" t="t" r="r" b="b"/>
              <a:pathLst>
                <a:path w="284" h="49">
                  <a:moveTo>
                    <a:pt x="0" y="18"/>
                  </a:moveTo>
                  <a:lnTo>
                    <a:pt x="250" y="19"/>
                  </a:lnTo>
                  <a:lnTo>
                    <a:pt x="250" y="31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243" y="0"/>
                  </a:moveTo>
                  <a:lnTo>
                    <a:pt x="284" y="25"/>
                  </a:lnTo>
                  <a:lnTo>
                    <a:pt x="243" y="49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7158240" y="2630520"/>
              <a:ext cx="284040" cy="145800"/>
              <a:chOff x="7158240" y="2630520"/>
              <a:chExt cx="284040" cy="145800"/>
            </a:xfrm>
          </p:grpSpPr>
          <p:grpSp>
            <p:nvGrpSpPr>
              <p:cNvPr id="261" name=""/>
              <p:cNvGrpSpPr/>
              <p:nvPr/>
            </p:nvGrpSpPr>
            <p:grpSpPr>
              <a:xfrm>
                <a:off x="7180920" y="2664360"/>
                <a:ext cx="227520" cy="111960"/>
                <a:chOff x="7180920" y="2664360"/>
                <a:chExt cx="227520" cy="111960"/>
              </a:xfrm>
            </p:grpSpPr>
            <p:sp>
              <p:nvSpPr>
                <p:cNvPr id="262" name=""/>
                <p:cNvSpPr/>
                <p:nvPr/>
              </p:nvSpPr>
              <p:spPr>
                <a:xfrm rot="5400000">
                  <a:off x="7238520" y="2606400"/>
                  <a:ext cx="111960" cy="22752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rot="5400000">
                  <a:off x="7238520" y="2606400"/>
                  <a:ext cx="111960" cy="227520"/>
                </a:xfrm>
                <a:prstGeom prst="rect">
                  <a:avLst/>
                </a:prstGeom>
                <a:noFill/>
                <a:ln cap="rnd" w="1584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4" name=""/>
              <p:cNvSpPr/>
              <p:nvPr/>
            </p:nvSpPr>
            <p:spPr>
              <a:xfrm>
                <a:off x="7158240" y="2720520"/>
                <a:ext cx="103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7261560" y="2630520"/>
                <a:ext cx="84960" cy="9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341480" y="2719440"/>
                <a:ext cx="100800" cy="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 flipH="1">
              <a:off x="6714000" y="2724840"/>
              <a:ext cx="4431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7434000" y="2724840"/>
              <a:ext cx="2768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711200" y="2724840"/>
              <a:ext cx="0" cy="4647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141040" y="2027880"/>
              <a:ext cx="10681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Multiplex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Digital charge outpu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25400" y="2104920"/>
              <a:ext cx="772200" cy="1828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64 input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2932-FB19-4B88-9466-CC66497C54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30481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64 channels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Preamp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Fast shaper 15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Discriminato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Slow shap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Track&amp;Hol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12bit AD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10bit DA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Bangap referenc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Digital formatt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Silicon Germanium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0.35µm BiCM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16mm2 are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419640" y="907920"/>
            <a:ext cx="5402160" cy="525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0AC0-62E3-4C2C-85D0-9737EB9986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MAROC performance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48360" y="1052640"/>
            <a:ext cx="3711600" cy="23857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250920" y="3860640"/>
            <a:ext cx="4176720" cy="25066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250920" y="1052640"/>
            <a:ext cx="4211640" cy="25970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4788000" y="3860640"/>
            <a:ext cx="4127400" cy="25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ED47-8ED2-4D6F-9C32-5E3D0FC9223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ADC performance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987640" y="692280"/>
            <a:ext cx="6156360" cy="345600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2614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Wilkinson type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64 channels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12 bits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80 µs conversion time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987640" y="4114800"/>
            <a:ext cx="615636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E5B9-36D5-4F20-920C-66C9C021199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CONCLUSION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23640" y="691920"/>
            <a:ext cx="5111640" cy="58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ROC2 fullfills most of the requirements of 2 km WC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ip mature, used in ATLAS luminomet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 be done: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ime dizitization (100 psTD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ta out “on power wire”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est on a prototype (16 PMs, 8’’) with MAROC2 foreseen shortly at IPN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Joint activities with KEK :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ests  at KEK by Tanaka-sa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mon ASIC development : TDC, ADC, DAQ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ecific preamp for HP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aracterization of common par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651640" y="3213000"/>
            <a:ext cx="2976480" cy="3384720"/>
            <a:chOff x="5651640" y="3213000"/>
            <a:chExt cx="2976480" cy="3384720"/>
          </a:xfrm>
        </p:grpSpPr>
        <p:pic>
          <p:nvPicPr>
            <p:cNvPr id="289" name="" descr=""/>
            <p:cNvPicPr/>
            <p:nvPr/>
          </p:nvPicPr>
          <p:blipFill>
            <a:blip r:embed="rId1"/>
            <a:srcRect l="16077" t="15312" r="15482" b="11430"/>
            <a:stretch/>
          </p:blipFill>
          <p:spPr>
            <a:xfrm>
              <a:off x="5651640" y="3213000"/>
              <a:ext cx="297648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6659640" y="4653000"/>
              <a:ext cx="1081080" cy="5763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5148360" y="189000"/>
            <a:ext cx="3625920" cy="27194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4692600" y="4962600"/>
            <a:ext cx="1471680" cy="170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B85E-1D49-40FD-8D0E-487AB08B04E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7T09:27:03Z</dcterms:created>
  <dc:creator>N. Seguin-Moreau</dc:creator>
  <dc:description/>
  <dc:language>en-US</dc:language>
  <cp:lastModifiedBy>taille</cp:lastModifiedBy>
  <cp:lastPrinted>2000-09-07T15:05:17Z</cp:lastPrinted>
  <dcterms:modified xsi:type="dcterms:W3CDTF">2007-05-08T08:50:13Z</dcterms:modified>
  <cp:revision>419</cp:revision>
  <dc:subject>Phone meeting</dc:subject>
  <dc:title>ATLAS Luminometry</dc:title>
</cp:coreProperties>
</file>